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5040" y="-144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504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0D318E9-CFCB-4602-BA57-B3EFC50D07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2360" y="884088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826345F7-4FE0-4CF4-B61E-69EC117D9709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7280" y="7012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528DD87-A05D-4808-B305-98BC7129074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24000" y="72864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16465C9-C1B5-4304-B86B-C9BA351F2E0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24000" y="72864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BC5F218-078C-4C25-AC59-480035C1F76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24000" y="72864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56B6AE6-E647-4282-AE82-5E74BB410ED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4000" y="72864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1C339DA-707D-4C9A-AEFB-9CD2DCF5651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974960" y="608040"/>
            <a:ext cx="282708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7873974-C6C5-4028-A657-781A48E4A82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8A96B11-CDA2-4355-9D94-5AD550822CE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C74C352-1681-4CB6-A474-01039EA8C27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8CA1071-BE2F-4A1B-8B0B-13A4B2A9DFA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974960" y="608040"/>
            <a:ext cx="282708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60C537F-3CAE-4351-89E3-607A935B849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07FA8B6-E38E-42D8-B9B8-0E6608179D7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F389271-F55D-400A-A743-63A1708D9DD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7CEA732-8055-42D0-8B9A-C94F95C0E2E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A3107D1-7CC3-4FEA-9C36-D84791A4F33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4000" y="72864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4BB1636-4EA9-4B99-A010-D015F4AF917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77F2C08-AE71-4778-B8A0-75C3A4CA7B6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24000" y="72864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0ECD109-6655-4C2F-922F-B9DC073A30A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24000" y="728640"/>
            <a:ext cx="4551480" cy="3413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2ED1388-E43C-4AA2-920F-FF084521364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92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24560" cy="34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1F94AB30-B09E-4D53-8906-458155D31190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8DB328A0-A3A5-4CCA-AF75-59FC44FB2329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85680" y="1467000"/>
            <a:ext cx="78598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 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8: Reviews and Checklists</a:t>
            </a:r>
            <a:r>
              <a:rPr b="0" lang="en-US" sz="4000" spc="-1" strike="noStrike">
                <a:solidFill>
                  <a:srgbClr val="39536b"/>
                </a:solidFill>
                <a:latin typeface="Century Schoolbook"/>
              </a:rPr>
              <a:t> </a:t>
            </a:r>
            <a:br>
              <a:rPr sz="3100"/>
            </a:b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Data Analysis Examp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injected and removed by pha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what phase do I inject the most defects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what phase are they removed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ld they be removed earlier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found after ship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defects are discovered after my work is done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can I find these defects earlier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fix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does it cost to fix a defect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could be saved by removing defects earlier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removal rates and yield for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efficient are my review processes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effective are my review processes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vising Check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tep in building checklists is to devise checks for the highest-priority defect type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your defect logs to identify the specific defects that you make and devise checks to find them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ecks should be devised to specifically address the defects that you m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vising Check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xample, if you often transpose numbers in your check register, then devise a checklist item for this def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ecklist items should have a small, easily-tested scope that can be checked quickly and accurate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981000" y="2997360"/>
            <a:ext cx="6977880" cy="421560"/>
            <a:chOff x="981000" y="2997360"/>
            <a:chExt cx="6977880" cy="421560"/>
          </a:xfrm>
        </p:grpSpPr>
        <p:sp>
          <p:nvSpPr>
            <p:cNvPr id="126" name="Rectangle 4"/>
            <p:cNvSpPr/>
            <p:nvPr/>
          </p:nvSpPr>
          <p:spPr>
            <a:xfrm>
              <a:off x="981000" y="2997360"/>
              <a:ext cx="5765760" cy="421560"/>
            </a:xfrm>
            <a:prstGeom prst="rect">
              <a:avLst/>
            </a:prstGeom>
            <a:noFill/>
            <a:ln w="255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Numbers transposed in check register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7" name="Rectangle 5"/>
            <p:cNvSpPr/>
            <p:nvPr/>
          </p:nvSpPr>
          <p:spPr>
            <a:xfrm>
              <a:off x="7520760" y="2997360"/>
              <a:ext cx="438120" cy="421560"/>
            </a:xfrm>
            <a:prstGeom prst="rect">
              <a:avLst/>
            </a:prstGeom>
            <a:noFill/>
            <a:ln w="255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9536b"/>
                  </a:solidFill>
                  <a:latin typeface="Wingdings"/>
                  <a:ea typeface="Wingdings"/>
                </a:rPr>
                <a:t>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rganizing Checklist Ite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nal step in building checklists is to organize your checklist items into categor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selecting categories, consider the follow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rge similar items into one categor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der the categories to support your review strategy and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and Evolving the Checklis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the review, execute each step of the checklist by going through the whole product one item at a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you complete each item, check it off the list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e review, ensure that all steps were check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using the review checklist, re-examine the resulting defect data to determine the success of the revie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checklist works, use and expand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checklist does not work, modify it to better address the defects that you are not find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stop injecting a certain type of defect, you can eventually delete the corresponding checklist it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Analyzing the Checkbook Proces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few slides examine data from the checkbook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ok at the time spent in each phase belo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283440" y="3254400"/>
            <a:ext cx="269532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ider the type of injection and removal activities that went  on during these pha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nk of potential opportunities for finding defects earlier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900000" y="3281400"/>
            <a:ext cx="544680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Defects Injected/Removed by Phas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were defects injected?  remov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is there potential to find defects earlie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974880" y="2514600"/>
            <a:ext cx="5956200" cy="3800520"/>
            <a:chOff x="974880" y="2514600"/>
            <a:chExt cx="5956200" cy="3800520"/>
          </a:xfrm>
        </p:grpSpPr>
        <p:sp>
          <p:nvSpPr>
            <p:cNvPr id="139" name="Rectangle 6"/>
            <p:cNvSpPr/>
            <p:nvPr/>
          </p:nvSpPr>
          <p:spPr>
            <a:xfrm>
              <a:off x="974880" y="2514600"/>
              <a:ext cx="5956200" cy="3797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aphicFrame>
          <p:nvGraphicFramePr>
            <p:cNvPr id="140" name="Object 5"/>
            <p:cNvGraphicFramePr/>
            <p:nvPr/>
          </p:nvGraphicFramePr>
          <p:xfrm>
            <a:off x="993600" y="2538360"/>
            <a:ext cx="5918040" cy="3776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3600" y="2538360"/>
                      <a:ext cx="5918040" cy="377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verage Fix Times per Pha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long does it take to fix defec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there any benefit to finding and removing defects earlie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898560" y="2408400"/>
          <a:ext cx="7510320" cy="41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2408400"/>
                    <a:ext cx="7510320" cy="41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areto Analysis by Defect Typ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17360" y="1709640"/>
            <a:ext cx="7769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types of defects remain at the Compare Bal. phas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ould they be found earlie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885960" y="2505240"/>
          <a:ext cx="7557840" cy="39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2505240"/>
                    <a:ext cx="755784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heckbook Process Defect Log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kind of defects are you making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ould you find these in a review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988920" y="2460600"/>
          <a:ext cx="7642440" cy="39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460600"/>
                    <a:ext cx="7642440" cy="39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2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4760" y="173484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have effective personal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lways follow the disciplined proc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a personal checkli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one product component at a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eck for one topic at a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eat each check as a personal certification that the product is free of this defe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ecklists are used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uide the review proces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ablish a consistent set of criteria for judging that the individual products are correct and comple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mote early defect remova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ilor the review process to find the defects that you mak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5800" y="99180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000" spc="-1" strike="noStrike">
                <a:solidFill>
                  <a:srgbClr val="9c2108"/>
                </a:solidFill>
                <a:latin typeface="Arial"/>
              </a:rPr>
              <a:t>Exercise 8:  Developing Review Checklists</a:t>
            </a:r>
            <a:endParaRPr b="1" lang="en-US" sz="30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 instr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your data from balancing the checkbook in exercise 7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the class data summary for exercise 7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your data analysis, construct a checklist for the checkbook proces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ay work individually or in grou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checklist template provided in class to document your review checkli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dify the checkbook process script accordingly to allow you to use the checkli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574880" y="6062760"/>
            <a:ext cx="160884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20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973680" y="5724360"/>
            <a:ext cx="6490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es your checklist address the most important problems that you had in executing the checkbook proces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d you make any changes to the process script?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how a checklist is used during the review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criteria for developing your own review checkli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review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zing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ising chec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ing chec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and evolving the checkli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Review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987480" y="1488960"/>
            <a:ext cx="729936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Checklis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performing precise tasks, it is difficult to do more than one thing at a time wel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ecklist defines the review steps in the suggested order for performing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checking off each item, you are more likely to perform each task proper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71480" y="4416480"/>
            <a:ext cx="8007480" cy="21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ilding Review Checklis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constructing review checklists, your objective is to identify and devise checks for the specific defect types that you m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uild and improve your review checklists, you will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documented review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data on the errors that you mak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 on the review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data can be derived from defect logs and project plan summar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view Checklist Construction Step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.  Analyze defect data to identify opportunities and         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ior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.  Devise checks for the defects that you m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.  Organize checks to support the review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steps are elaborated on the following slid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ples are given to illustrate how these steps might be applied in the checkbook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alyzing Defect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defects that get through your process phases as “escapes.”  Escapes are the principle source of data for personal improv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ensure that your reviews provide the most benefit, your checklists should focus on the defects th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ive you the most trou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the most levera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areto distribution will help you to establish priorities.  Create distributions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frequency by catego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cost by catego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2-03T20:12:52Z</cp:lastPrinted>
  <dcterms:modified xsi:type="dcterms:W3CDTF">2018-09-06T00:16:07Z</dcterms:modified>
  <cp:revision>144</cp:revision>
  <dc:subject/>
  <dc:title>No Slide Title</dc:title>
</cp:coreProperties>
</file>